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A1F1-5707-46A9-ABDB-745A3DAC4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FAF4-BBF4-4F3C-B1C8-4B475201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980-A8D5-4FB5-910C-060D46AA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DED-4497-46FA-97E9-AE6A3ADB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B6D-2962-444F-AC4C-0B362681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01E-F40B-4DA8-A3F8-81FA3934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0AB-A0DD-4CCE-95A0-E0665434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B10-1180-4283-B06D-331DE5802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C5B-6EEB-4C68-B158-6C4A3CD8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FB2A-5634-4DB8-A80D-B2A5A824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C77-BFCD-4751-9553-D22B3A58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3B8D-4F04-4FE9-87A4-3065E947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f2f2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f2f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C004-54FC-4E63-96AB-1467D09ABA8F}" type="slidenum">
              <a:rPr b="0" lang="en-US" sz="1200" spc="-1" strike="noStrike">
                <a:solidFill>
                  <a:srgbClr val="f2f2f2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990720" y="2362320"/>
            <a:ext cx="1026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amous America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743200" y="33526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y Susan H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33440" y="2090880"/>
            <a:ext cx="8272440" cy="1517400"/>
          </a:xfrm>
          <a:prstGeom prst="rect">
            <a:avLst/>
          </a:prstGeom>
          <a:ln w="0">
            <a:noFill/>
          </a:ln>
        </p:spPr>
      </p:pic>
      <p:pic>
        <p:nvPicPr>
          <p:cNvPr id="120" name="Subtitle 2" descr=""/>
          <p:cNvPicPr/>
          <p:nvPr/>
        </p:nvPicPr>
        <p:blipFill>
          <a:blip r:embed="rId2"/>
          <a:stretch/>
        </p:blipFill>
        <p:spPr>
          <a:xfrm>
            <a:off x="1365120" y="3749760"/>
            <a:ext cx="64137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ontent Placeholder 3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81080" y="267012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first President of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981080" y="3124080"/>
            <a:ext cx="68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in the Revolutionary War fighting against Eng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739880" y="4611600"/>
            <a:ext cx="55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Antonee,  Keyadja, and Alv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Content Placeholder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2438280" y="2438280"/>
            <a:ext cx="491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born in a log cabin.        He was the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ident.          He ended the Civil War and slave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209680" y="4724280"/>
            <a:ext cx="573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Angel, Kaitlynn, and Kal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 Placeholder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1752480" y="2514600"/>
            <a:ext cx="733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min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led a march in Washington, D. 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gave a speech about his d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had a dream that all people will be eq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Dyamin and Rodr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Content Placeholder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2590920" y="2514600"/>
            <a:ext cx="5970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a good catcher and hit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s the first African American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leag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wanted all athletes treated eq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Peyton, Mison, and Makay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Content Placeholder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040920" y="2325600"/>
            <a:ext cx="5697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en Keller couldn’t see, hear, or ta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graduated from college and was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speaker and wri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helped other people with disa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Anthony and Syd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Content Placeholder 2" descr=""/>
          <p:cNvPicPr/>
          <p:nvPr/>
        </p:nvPicPr>
        <p:blipFill>
          <a:blip r:embed="rId1"/>
          <a:stretch/>
        </p:blipFill>
        <p:spPr>
          <a:xfrm>
            <a:off x="450720" y="1463760"/>
            <a:ext cx="8242560" cy="4668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499840" y="2478240"/>
            <a:ext cx="62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nted women to have the right to vo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s a suffrag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men got the right to vote after she d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by Mason, Leonard and Ider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These famous Americans all contributed to the freedom and equality we have today.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2:05:10Z</dcterms:created>
  <dc:creator>ECPS-USER</dc:creator>
  <dc:description/>
  <dc:language>en-US</dc:language>
  <cp:lastModifiedBy>ECPS-USER</cp:lastModifiedBy>
  <dcterms:modified xsi:type="dcterms:W3CDTF">2010-03-31T21:00:39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3831033</vt:lpwstr>
  </property>
</Properties>
</file>